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1424-D0DB-4ECE-B070-12FAA8F55C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блица заполняется постепенно, вместе с классом. Учащиеся отвечают с м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блица заполняется постепенно, вместе с классом. Учащиеся отвечают с м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блица сложная, поэтому снабжена дополнительными выделяющими блоками с анимацией. Управляется по кл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FBFD-5789-4E96-A6D7-FB991E314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B7A5-DEFE-46B1-B02D-5F54ABAB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A736-4430-4875-8A98-52796404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A9F8-7980-4627-989F-572CF9FC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5838-33E0-4A3F-95B1-4089DF17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425A-0953-4DB5-927D-0CAF667C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032D-FDE9-463C-BCDE-F660FA58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E8BF-8C3F-400E-B266-8949B7B9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7ED0-7FCE-4F40-80E3-4A86B538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5F28-D3EB-44B4-B760-3AE3DE54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A298-8B3A-42ED-952C-34AC5EDAD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D970-7C5C-4105-86DA-6BA26A1E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68360" y="66690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9"/>
          <p:cNvSpPr/>
          <p:nvPr/>
        </p:nvSpPr>
        <p:spPr>
          <a:xfrm>
            <a:off x="611280" y="14842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28F1-8E38-40C1-A0AE-492769341D6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90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Логика высказываний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2133360"/>
            <a:ext cx="730404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6600"/>
                </a:solidFill>
                <a:latin typeface="Arial"/>
              </a:rPr>
              <a:t>Алгоритм построения </a:t>
            </a:r>
            <a:br>
              <a:rPr sz="3800"/>
            </a:br>
            <a:r>
              <a:rPr b="1" lang="ru-RU" sz="3800" spc="-1" strike="noStrike">
                <a:solidFill>
                  <a:srgbClr val="996600"/>
                </a:solidFill>
                <a:latin typeface="Arial"/>
              </a:rPr>
              <a:t>таблиц истинност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вто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геев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вгений Викто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СОШ №4 г. Миньяр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яби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geev73@mail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shk4-minyar.ucoz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7"/>
          <p:cNvSpPr/>
          <p:nvPr/>
        </p:nvSpPr>
        <p:spPr>
          <a:xfrm>
            <a:off x="609480" y="62064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1981080" y="198900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Таблицы истинност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ешение логических выражений принято оформлять в виде таблиц, в которых по действиям показано, какие значения принимает логическое выражение при всех возможных наборах его переме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Для составления таблицы истинности необходимо: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яснить количество строк (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о переменных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яснить количество столбцов (количество переменных + количество логических операций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строить таблицу, указывая названия столбцов и возможные наборы значений переме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полнить таблицу истинности по столбца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 1.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троим таблицу истинности для функции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ременных: две (А и В), т.е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количество стро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4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 заголовком: 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личество столбцов: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 переменные + 5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ераций (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того 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рядок операци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       5     2      4     3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 1. Таблиц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0920" y="2565360"/>
          <a:ext cx="8497800" cy="2278080"/>
        </p:xfrm>
        <a:graphic>
          <a:graphicData uri="http://schemas.openxmlformats.org/drawingml/2006/table">
            <a:tbl>
              <a:tblPr/>
              <a:tblGrid>
                <a:gridCol w="792000"/>
                <a:gridCol w="865080"/>
                <a:gridCol w="935280"/>
                <a:gridCol w="792000"/>
                <a:gridCol w="792360"/>
                <a:gridCol w="1439640"/>
                <a:gridCol w="2881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219744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6108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7760" y="1844640"/>
            <a:ext cx="3662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¬A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¬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5308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3416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9488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 2.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строим таблицу истинности для функции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Переменных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ри (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, т.е.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количество стро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8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 заголовком: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Количество столбцов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 переменные + 3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перации (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.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того 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Порядок операций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       2 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. Таблиц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16000" y="2276640"/>
          <a:ext cx="6626160" cy="3713040"/>
        </p:xfrm>
        <a:graphic>
          <a:graphicData uri="http://schemas.openxmlformats.org/drawingml/2006/table">
            <a:tbl>
              <a:tblPr/>
              <a:tblGrid>
                <a:gridCol w="576360"/>
                <a:gridCol w="649080"/>
                <a:gridCol w="717840"/>
                <a:gridCol w="938160"/>
                <a:gridCol w="1439640"/>
                <a:gridCol w="2305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¬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¬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126036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11840" y="1628640"/>
            <a:ext cx="2643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¬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3672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580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4944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216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2685960"/>
            <a:ext cx="50328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2685960"/>
            <a:ext cx="79236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63640" y="3079800"/>
            <a:ext cx="50328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32000" y="3079800"/>
            <a:ext cx="79236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63640" y="3467160"/>
            <a:ext cx="503280" cy="3747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32000" y="3467160"/>
            <a:ext cx="792360" cy="3747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63640" y="3860640"/>
            <a:ext cx="503280" cy="4050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3860640"/>
            <a:ext cx="792360" cy="4050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63640" y="4292640"/>
            <a:ext cx="503280" cy="40788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4292640"/>
            <a:ext cx="792360" cy="40788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63640" y="472428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32000" y="4724280"/>
            <a:ext cx="79236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63640" y="514836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32000" y="5148360"/>
            <a:ext cx="79236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557532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5575320"/>
            <a:ext cx="79236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380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2689200"/>
            <a:ext cx="50328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87280" y="3083040"/>
            <a:ext cx="50328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3470400"/>
            <a:ext cx="503280" cy="3744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7280" y="3863880"/>
            <a:ext cx="503280" cy="4050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87280" y="4295880"/>
            <a:ext cx="503280" cy="40788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87280" y="472752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87280" y="5151600"/>
            <a:ext cx="503280" cy="3981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557856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76640" y="2679840"/>
            <a:ext cx="126360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76640" y="3073320"/>
            <a:ext cx="126360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6640" y="3460680"/>
            <a:ext cx="1263600" cy="3747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76640" y="3854520"/>
            <a:ext cx="1263600" cy="4046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76640" y="4286160"/>
            <a:ext cx="1263600" cy="4082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76640" y="4718160"/>
            <a:ext cx="126360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76640" y="5141880"/>
            <a:ext cx="126360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76640" y="5568840"/>
            <a:ext cx="126360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10:07Z</dcterms:created>
  <dc:creator>Сергеев Евгений</dc:creator>
  <dc:description/>
  <dc:language>en-US</dc:language>
  <cp:lastModifiedBy>Сергеев Евгений</cp:lastModifiedBy>
  <dcterms:modified xsi:type="dcterms:W3CDTF">2010-09-29T14:53:10Z</dcterms:modified>
  <cp:revision>120</cp:revision>
  <dc:subject/>
  <dc:title>Слайд 1</dc:title>
</cp:coreProperties>
</file>